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29.wmf" ContentType="image/x-wmf"/>
  <Override PartName="/ppt/media/image19.jpeg" ContentType="image/jpeg"/>
  <Override PartName="/ppt/media/image25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5.jpeg" ContentType="image/jpeg"/>
  <Override PartName="/ppt/media/image11.wmf" ContentType="image/x-wmf"/>
  <Override PartName="/ppt/media/image14.png" ContentType="image/png"/>
  <Override PartName="/ppt/media/image30.wmf" ContentType="image/x-wmf"/>
  <Override PartName="/ppt/media/image33.wmf" ContentType="image/x-wmf"/>
  <Override PartName="/ppt/media/image37.jpeg" ContentType="image/jpeg"/>
  <Override PartName="/ppt/media/image35.wmf" ContentType="image/x-wmf"/>
  <Override PartName="/ppt/media/image38.png" ContentType="image/png"/>
  <Override PartName="/ppt/media/image8.wmf" ContentType="image/x-wmf"/>
  <Override PartName="/ppt/media/image40.png" ContentType="image/png"/>
  <Override PartName="/ppt/media/image39.png" ContentType="image/png"/>
  <Override PartName="/ppt/media/image42.png" ContentType="image/png"/>
  <Override PartName="/ppt/media/image43.wmf" ContentType="image/x-wmf"/>
  <Override PartName="/ppt/media/image36.wmf" ContentType="image/x-wmf"/>
  <Override PartName="/ppt/media/image45.png" ContentType="image/png"/>
  <Override PartName="/ppt/media/image44.jpeg" ContentType="image/jpeg"/>
  <Override PartName="/ppt/media/image32.wmf" ContentType="image/x-wmf"/>
  <Override PartName="/ppt/media/image46.jpeg" ContentType="image/jpeg"/>
  <Override PartName="/ppt/media/image10.wmf" ContentType="image/x-wmf"/>
  <Override PartName="/ppt/media/image31.wmf" ContentType="image/x-wmf"/>
  <Override PartName="/ppt/media/image28.png" ContentType="image/png"/>
  <Override PartName="/ppt/media/image27.jpeg" ContentType="image/jpeg"/>
  <Override PartName="/ppt/media/image13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.jpeg" ContentType="image/jpeg"/>
  <Override PartName="/ppt/media/image12.wmf" ContentType="image/x-wmf"/>
  <Override PartName="/ppt/media/image34.png" ContentType="image/png"/>
  <Override PartName="/ppt/media/image4.png" ContentType="image/png"/>
  <Override PartName="/ppt/media/image41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B25C-07A5-49FB-9B57-D779D299FE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F1ED-1A10-4679-84FE-7865BD95F0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0CE5-C671-4775-AFCF-AEE5502E7F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D4F6-B6C5-4FB4-BC74-8FE108AE32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DD10-E826-4273-9172-76D22F0839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3F17-BEAD-49C5-B38E-BD6FCF9A18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0954-1D44-4F45-A8EC-402AA254D7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42E4-DC4B-4F8A-8FF9-D3F3E4276E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38FB-4FBC-461C-B047-813FBC49A0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61E8-31C0-4FF9-96B8-F07DB07183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569F-0A20-4FE8-A6E1-8D8FD195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6F73-8AD0-4AAA-AF66-54EED57C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E227-C181-427F-A374-3456F4D8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FAE-2EF9-476D-8BC3-20FC2073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6A2B-36E2-4D63-BB97-531631B1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7BE0-8012-40F8-AF19-47AB7868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C0A8-B6D0-4163-A335-755897E5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28BD-94FC-4BDF-A1C0-7CB1D624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3445-A56E-46DD-99AB-1A2EFDD1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ECC0-9FBA-4D51-911A-3AEFE1DB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DBA9-31AE-4926-A267-AF0D8FB8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5146-0752-4C1C-8505-93EC1AA1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511E-165F-4164-84B3-6BB1E1FE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F7D9-EDDD-4F8C-AB06-34653012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65B4-C8F3-453C-914B-A5775690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DA3E-0884-4A44-8D57-053E39BC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2579-D017-4829-B407-B102C06C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4993-C321-4684-A6C3-2EA2DF2E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06F3-B79F-4592-A6C6-4D84C113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B75D-6ECB-410C-B463-790ACFA1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2EC8-C383-4FAB-A53E-CF3CD645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2197-5615-4957-A3E4-9A749E11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6B7F-97DC-485C-B0EE-E15F7DE0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B94-3A87-466A-9742-F29F66D0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AC3A-8673-4E4A-B96D-EA12C3908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FE9D-CDC7-43BB-B820-9F7013338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719280" y="5218200"/>
            <a:ext cx="4671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08000" y="5011560"/>
            <a:ext cx="608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CC Libra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giarism and Refer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87EB-3264-4358-ABEE-7D0D2305B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1187280" y="40464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900000" y="1844640"/>
            <a:ext cx="626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701640" y="297000"/>
            <a:ext cx="67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Give Credit, Get Cre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108000" y="1341360"/>
            <a:ext cx="77040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dana"/>
              </a:rPr>
              <a:t>Any books, journal articles, newspaper articles, websites etc. you use in your assignment need to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Verdana"/>
              </a:rPr>
              <a:t>acknowledg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dana"/>
              </a:rPr>
              <a:t> be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Verdana"/>
              </a:rPr>
              <a:t>It gives cred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dana"/>
              </a:rPr>
              <a:t>to the person whose ideas you are using (thus 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Verdana"/>
              </a:rPr>
              <a:t>avoiding plagiar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Verdana"/>
              </a:rPr>
              <a:t>You get cred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dana"/>
              </a:rPr>
              <a:t>from your le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dana"/>
              </a:rPr>
              <a:t>for doing your resear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Verdana"/>
              </a:rPr>
              <a:t>(and hopefully a better grade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4705200" y="3803760"/>
            <a:ext cx="4183200" cy="292572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5DB1-BA62-4699-9C26-C01D4637C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368280" y="1341360"/>
            <a:ext cx="3294000" cy="53722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3862440" y="6021360"/>
            <a:ext cx="517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333333"/>
                </a:solidFill>
                <a:latin typeface="Arial"/>
              </a:rPr>
              <a:t>(https://www.pinterest.com/pin/144537469266657316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333333"/>
                </a:solidFill>
                <a:latin typeface="Arial"/>
              </a:rPr>
              <a:t>Helping Students Avoid Plagiarism | Composition Studies | Learn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333333"/>
                </a:solidFill>
                <a:latin typeface="Arial"/>
              </a:rPr>
              <a:t>Accessed: 18 July 201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258840" y="66600"/>
            <a:ext cx="755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hen do you need to c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A02B-1B61-4A54-B619-6C83A4168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1187280" y="40464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1187280" y="40464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900000" y="1844640"/>
            <a:ext cx="626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250920" y="1357200"/>
            <a:ext cx="7634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iting: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ou identify the sources you are using by ‘citing’ them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the tex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your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in your assignm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elts believed that the god Lenus would protect them from illness (Waddell, 2014, 66) and this meant tha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87480" y="360360"/>
            <a:ext cx="75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1279440" y="4848120"/>
            <a:ext cx="6767640" cy="1008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mal details given (Author, Year of publication, Page no.) so as not to stop the flow of the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Arrow Connector 3"/>
          <p:cNvCxnSpPr/>
          <p:nvPr/>
        </p:nvCxnSpPr>
        <p:spPr>
          <a:xfrm>
            <a:off x="4192560" y="4573080"/>
            <a:ext cx="164160" cy="369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55" name="Picture 1" descr=""/>
          <p:cNvPicPr/>
          <p:nvPr/>
        </p:nvPicPr>
        <p:blipFill>
          <a:blip r:embed="rId2"/>
          <a:stretch/>
        </p:blipFill>
        <p:spPr>
          <a:xfrm>
            <a:off x="6012000" y="168120"/>
            <a:ext cx="1800000" cy="118908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D05A-D899-4644-80CA-D66E12542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"/>
          <p:cNvSpPr/>
          <p:nvPr/>
        </p:nvSpPr>
        <p:spPr>
          <a:xfrm>
            <a:off x="1187280" y="40464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1581120" y="264960"/>
            <a:ext cx="27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250920" y="1484280"/>
            <a:ext cx="7634160" cy="51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enc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le a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en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your assignment,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lete detail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 work cited are included in you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ist of Referenc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Bibl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cock, J. (2009). Daily life of the pagan celts. Oxford: Greenwood World Pu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erts, A. (2015).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he Cel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search for a civilization. London: Heron 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ddell, J. (2014).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rchaeology and Celtic my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Dublin, Ireland: Four Courts Press L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6012000" y="189000"/>
            <a:ext cx="1800000" cy="1189080"/>
          </a:xfrm>
          <a:prstGeom prst="rect">
            <a:avLst/>
          </a:prstGeom>
          <a:ln w="0">
            <a:noFill/>
          </a:ln>
        </p:spPr>
      </p:pic>
      <p:sp>
        <p:nvSpPr>
          <p:cNvPr id="16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1110-A190-4E08-AC99-3C521FD4A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Arrow Connector 3"/>
          <p:cNvCxnSpPr/>
          <p:nvPr/>
        </p:nvCxnSpPr>
        <p:spPr>
          <a:xfrm>
            <a:off x="34560" y="6021000"/>
            <a:ext cx="289440" cy="108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905760" y="376200"/>
            <a:ext cx="62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ing/Citation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STY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179280" y="1268280"/>
            <a:ext cx="770580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ayou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f the details of those books, journal articles, webpages etc. - anything that you have used for your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ke sure you know what your lecturer expects and follow their guide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76360" y="2637000"/>
          <a:ext cx="6622920" cy="2936880"/>
        </p:xfrm>
        <a:graphic>
          <a:graphicData uri="http://schemas.openxmlformats.org/drawingml/2006/table">
            <a:tbl>
              <a:tblPr/>
              <a:tblGrid>
                <a:gridCol w="3179520"/>
                <a:gridCol w="3443400"/>
              </a:tblGrid>
              <a:tr h="180324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lecturers want yo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use a specific sty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id out in a certain order and with commas, full stops, italics etc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ed3d7">
                        <a:alpha val="52000"/>
                      </a:srgbClr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g. the Harvard style looks like thi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ddell, J. (2014). </a:t>
                      </a: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aeology and Celtic myth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Dublin, Ireland: Four Courts Press Lt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ed3d7">
                        <a:alpha val="52000"/>
                      </a:srgbClr>
                    </a:solidFill>
                  </a:tcPr>
                </a:tc>
              </a:tr>
              <a:tr h="113364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don’t mind which style you use, as long as the presentation of the information is consist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>
                        <a:alpha val="56000"/>
                      </a:srgbClr>
                    </a:solidFill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that it’s readable and easy to find the books, articles, websites you referenc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>
                        <a:alpha val="56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9348-7537-4B29-8DA1-0EA6D43A0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2"/>
          <p:cNvCxnSpPr/>
          <p:nvPr/>
        </p:nvCxnSpPr>
        <p:spPr>
          <a:xfrm>
            <a:off x="2987640" y="2852280"/>
            <a:ext cx="72144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0" name="Straight Arrow Connector 8"/>
          <p:cNvCxnSpPr/>
          <p:nvPr/>
        </p:nvCxnSpPr>
        <p:spPr>
          <a:xfrm>
            <a:off x="3634920" y="4868640"/>
            <a:ext cx="39780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1021680" y="187200"/>
            <a:ext cx="596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Where to find tho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ing/Citation Sty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900000" y="1844640"/>
            <a:ext cx="626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396720" y="1341360"/>
            <a:ext cx="6732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Your le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Your Course Handbook or School’s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Books in UCC Library – including eBoo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" descr=""/>
          <p:cNvPicPr/>
          <p:nvPr/>
        </p:nvPicPr>
        <p:blipFill>
          <a:blip r:embed="rId2"/>
          <a:stretch/>
        </p:blipFill>
        <p:spPr>
          <a:xfrm>
            <a:off x="2160720" y="3511440"/>
            <a:ext cx="5595840" cy="32464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176" name="TextBox 2"/>
          <p:cNvSpPr/>
          <p:nvPr/>
        </p:nvSpPr>
        <p:spPr>
          <a:xfrm>
            <a:off x="5075280" y="3451320"/>
            <a:ext cx="2592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yle &amp;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Arrow Connector 5"/>
          <p:cNvCxnSpPr>
            <a:stCxn id="176" idx="1"/>
          </p:cNvCxnSpPr>
          <p:nvPr/>
        </p:nvCxnSpPr>
        <p:spPr>
          <a:xfrm flipH="1" flipV="1">
            <a:off x="4447800" y="3644280"/>
            <a:ext cx="627840" cy="37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2059-EF4F-47B4-BF81-426E86768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" descr=""/>
          <p:cNvPicPr/>
          <p:nvPr/>
        </p:nvPicPr>
        <p:blipFill>
          <a:blip r:embed="rId3"/>
          <a:stretch/>
        </p:blipFill>
        <p:spPr>
          <a:xfrm>
            <a:off x="6789600" y="1317600"/>
            <a:ext cx="1457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125280" y="1346040"/>
            <a:ext cx="765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Search and many databases and journals give the option of citing the article - look out for the symbol.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lways check that it conforms to what is required by your lectur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1D7C-AAC8-4A5E-B49E-C913B8BDE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157320" y="3164040"/>
            <a:ext cx="7343640" cy="1692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3"/>
          <a:stretch/>
        </p:blipFill>
        <p:spPr>
          <a:xfrm>
            <a:off x="6572160" y="314280"/>
            <a:ext cx="744480" cy="86220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pic>
        <p:nvPicPr>
          <p:cNvPr id="185" name="Picture 1" descr=""/>
          <p:cNvPicPr/>
          <p:nvPr/>
        </p:nvPicPr>
        <p:blipFill>
          <a:blip r:embed="rId4"/>
          <a:srcRect l="0" t="0" r="0" b="41727"/>
          <a:stretch/>
        </p:blipFill>
        <p:spPr>
          <a:xfrm>
            <a:off x="1362240" y="4989600"/>
            <a:ext cx="6432480" cy="1738080"/>
          </a:xfrm>
          <a:prstGeom prst="rect">
            <a:avLst/>
          </a:prstGeom>
          <a:ln w="0">
            <a:noFill/>
          </a:ln>
        </p:spPr>
      </p:pic>
      <p:sp>
        <p:nvSpPr>
          <p:cNvPr id="186" name="TextBox 5"/>
          <p:cNvSpPr/>
          <p:nvPr/>
        </p:nvSpPr>
        <p:spPr>
          <a:xfrm>
            <a:off x="388800" y="314280"/>
            <a:ext cx="576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itation help in OneSearch, databases and online 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"/>
          <p:cNvSpPr/>
          <p:nvPr/>
        </p:nvSpPr>
        <p:spPr>
          <a:xfrm>
            <a:off x="108000" y="1268280"/>
            <a:ext cx="755964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ree citation software on Intern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 BibMe, Cite this for me, Cit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http://elearningindustry.com/12-best-free-online-bibliography-and-citation-tools Accessed: 18 July 20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CC Library subscribes to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nd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lasses run in Library during the year – useful for large final year projects, masters thesi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324000" y="223920"/>
            <a:ext cx="7513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169920" y="241200"/>
            <a:ext cx="751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ing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5722920" y="3854520"/>
            <a:ext cx="2028960" cy="609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3"/>
          <a:srcRect l="8221" t="6846" r="4075" b="9380"/>
          <a:stretch/>
        </p:blipFill>
        <p:spPr>
          <a:xfrm>
            <a:off x="5533920" y="1386000"/>
            <a:ext cx="2303640" cy="1511280"/>
          </a:xfrm>
          <a:prstGeom prst="rect">
            <a:avLst/>
          </a:prstGeom>
          <a:ln w="0">
            <a:noFill/>
          </a:ln>
        </p:spPr>
      </p:pic>
      <p:sp>
        <p:nvSpPr>
          <p:cNvPr id="19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7E55-2EF5-476A-BD45-C51DE1007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900000" y="1844640"/>
            <a:ext cx="626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324000" y="33336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itethisforme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8" descr=""/>
          <p:cNvPicPr/>
          <p:nvPr/>
        </p:nvPicPr>
        <p:blipFill>
          <a:blip r:embed="rId1"/>
          <a:stretch/>
        </p:blipFill>
        <p:spPr>
          <a:xfrm>
            <a:off x="179280" y="1386000"/>
            <a:ext cx="7632720" cy="45417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0"/>
          <p:cNvSpPr/>
          <p:nvPr/>
        </p:nvSpPr>
        <p:spPr>
          <a:xfrm>
            <a:off x="347760" y="6081840"/>
            <a:ext cx="5465520" cy="459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s://www.citethisforme.com/harv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Ink 4" descr=""/>
          <p:cNvPicPr/>
          <p:nvPr/>
        </p:nvPicPr>
        <p:blipFill>
          <a:blip r:embed="rId2"/>
          <a:stretch/>
        </p:blipFill>
        <p:spPr>
          <a:xfrm>
            <a:off x="2087640" y="2378160"/>
            <a:ext cx="533160" cy="185760"/>
          </a:xfrm>
          <a:prstGeom prst="rect">
            <a:avLst/>
          </a:prstGeom>
          <a:ln w="0">
            <a:noFill/>
          </a:ln>
        </p:spPr>
      </p:pic>
      <p:pic>
        <p:nvPicPr>
          <p:cNvPr id="200" name="Ink 5" descr=""/>
          <p:cNvPicPr/>
          <p:nvPr/>
        </p:nvPicPr>
        <p:blipFill>
          <a:blip r:embed="rId3"/>
          <a:stretch/>
        </p:blipFill>
        <p:spPr>
          <a:xfrm>
            <a:off x="6923160" y="4653000"/>
            <a:ext cx="474480" cy="360"/>
          </a:xfrm>
          <a:prstGeom prst="rect">
            <a:avLst/>
          </a:prstGeom>
          <a:ln w="0">
            <a:noFill/>
          </a:ln>
        </p:spPr>
      </p:pic>
      <p:pic>
        <p:nvPicPr>
          <p:cNvPr id="201" name="Ink 1" descr=""/>
          <p:cNvPicPr/>
          <p:nvPr/>
        </p:nvPicPr>
        <p:blipFill>
          <a:blip r:embed="rId4"/>
          <a:stretch/>
        </p:blipFill>
        <p:spPr>
          <a:xfrm>
            <a:off x="2471760" y="5653080"/>
            <a:ext cx="1674720" cy="263520"/>
          </a:xfrm>
          <a:prstGeom prst="rect">
            <a:avLst/>
          </a:prstGeom>
          <a:ln w="0">
            <a:noFill/>
          </a:ln>
        </p:spPr>
      </p:pic>
      <p:pic>
        <p:nvPicPr>
          <p:cNvPr id="202" name="Ink 2" descr=""/>
          <p:cNvPicPr/>
          <p:nvPr/>
        </p:nvPicPr>
        <p:blipFill>
          <a:blip r:embed="rId5"/>
          <a:stretch/>
        </p:blipFill>
        <p:spPr>
          <a:xfrm>
            <a:off x="4430880" y="5581800"/>
            <a:ext cx="1423800" cy="196560"/>
          </a:xfrm>
          <a:prstGeom prst="rect">
            <a:avLst/>
          </a:prstGeom>
          <a:ln w="0">
            <a:noFill/>
          </a:ln>
        </p:spPr>
      </p:pic>
      <p:pic>
        <p:nvPicPr>
          <p:cNvPr id="203" name="Ink 3" descr=""/>
          <p:cNvPicPr/>
          <p:nvPr/>
        </p:nvPicPr>
        <p:blipFill>
          <a:blip r:embed="rId6"/>
          <a:stretch/>
        </p:blipFill>
        <p:spPr>
          <a:xfrm>
            <a:off x="2874960" y="5587920"/>
            <a:ext cx="1293840" cy="220680"/>
          </a:xfrm>
          <a:prstGeom prst="rect">
            <a:avLst/>
          </a:prstGeom>
          <a:ln w="0">
            <a:noFill/>
          </a:ln>
        </p:spPr>
      </p:pic>
      <p:sp>
        <p:nvSpPr>
          <p:cNvPr id="20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AFBA-E39D-4DC0-8E97-0D5DD7E48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542880" y="200160"/>
            <a:ext cx="71247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Verdana"/>
              </a:rPr>
              <a:t>Library Subject Gu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Content Placeholder 3" descr=""/>
          <p:cNvPicPr/>
          <p:nvPr/>
        </p:nvPicPr>
        <p:blipFill>
          <a:blip r:embed="rId2"/>
          <a:stretch/>
        </p:blipFill>
        <p:spPr>
          <a:xfrm>
            <a:off x="539640" y="1981080"/>
            <a:ext cx="7918560" cy="41148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208" name="Ink 7" descr=""/>
          <p:cNvPicPr/>
          <p:nvPr/>
        </p:nvPicPr>
        <p:blipFill>
          <a:blip r:embed="rId3"/>
          <a:stretch/>
        </p:blipFill>
        <p:spPr>
          <a:xfrm>
            <a:off x="4257720" y="2031840"/>
            <a:ext cx="716040" cy="189000"/>
          </a:xfrm>
          <a:prstGeom prst="rect">
            <a:avLst/>
          </a:prstGeom>
          <a:ln w="0">
            <a:noFill/>
          </a:ln>
        </p:spPr>
      </p:pic>
      <p:pic>
        <p:nvPicPr>
          <p:cNvPr id="209" name="Ink 8" descr=""/>
          <p:cNvPicPr/>
          <p:nvPr/>
        </p:nvPicPr>
        <p:blipFill>
          <a:blip r:embed="rId4"/>
          <a:stretch/>
        </p:blipFill>
        <p:spPr>
          <a:xfrm>
            <a:off x="5487840" y="3586320"/>
            <a:ext cx="824040" cy="222120"/>
          </a:xfrm>
          <a:prstGeom prst="rect">
            <a:avLst/>
          </a:prstGeom>
          <a:ln w="0">
            <a:noFill/>
          </a:ln>
        </p:spPr>
      </p:pic>
      <p:sp>
        <p:nvSpPr>
          <p:cNvPr id="210" name="Oval 6"/>
          <p:cNvSpPr/>
          <p:nvPr/>
        </p:nvSpPr>
        <p:spPr>
          <a:xfrm>
            <a:off x="4140360" y="1773360"/>
            <a:ext cx="1152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D28C-96D4-4173-BBFF-80C14BCBE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98360" y="2271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at we’ll c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23920" y="1484280"/>
            <a:ext cx="737244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Citing/Re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Keeping on the right side of Copyright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6156360" y="3763800"/>
            <a:ext cx="2566800" cy="230688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2426-7DF3-49B8-BD4F-B4005DB61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108000" y="115920"/>
            <a:ext cx="77040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Verdana"/>
              </a:rPr>
              <a:t>A brief word abou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Verdana"/>
              </a:rPr>
              <a:t>Copyright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ontent Placeholder 2"/>
          <p:cNvSpPr/>
          <p:nvPr/>
        </p:nvSpPr>
        <p:spPr>
          <a:xfrm>
            <a:off x="469800" y="1503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Verdana"/>
              </a:rPr>
              <a:t>Bear in mind when you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Verdana"/>
              </a:rPr>
              <a:t>Photocop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Verdana"/>
              </a:rPr>
              <a:t>Pri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Verdana"/>
              </a:rPr>
              <a:t>Downlo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4030560" y="2994120"/>
            <a:ext cx="4435560" cy="2952720"/>
          </a:xfrm>
          <a:prstGeom prst="rect">
            <a:avLst/>
          </a:prstGeom>
          <a:ln w="0">
            <a:noFill/>
          </a:ln>
        </p:spPr>
      </p:pic>
      <p:sp>
        <p:nvSpPr>
          <p:cNvPr id="21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FF4B-78ED-4722-86F8-C7A9552FC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108000" y="115920"/>
            <a:ext cx="77040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Content Placeholder 2"/>
          <p:cNvSpPr/>
          <p:nvPr/>
        </p:nvSpPr>
        <p:spPr>
          <a:xfrm>
            <a:off x="469800" y="1533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8013-D94A-40F2-8EF1-C212B0C3F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"/>
          <p:cNvSpPr/>
          <p:nvPr/>
        </p:nvSpPr>
        <p:spPr>
          <a:xfrm>
            <a:off x="469800" y="1533600"/>
            <a:ext cx="69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iterary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usic, ly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ramatic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ages &amp; sculptural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rchitectural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lms, audio-visual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ideo games &amp;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udio recor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1324080" y="291960"/>
            <a:ext cx="63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What does it co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5145120" y="1346040"/>
            <a:ext cx="214776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itle 1"/>
          <p:cNvSpPr/>
          <p:nvPr/>
        </p:nvSpPr>
        <p:spPr>
          <a:xfrm>
            <a:off x="108000" y="115920"/>
            <a:ext cx="77040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ontent Placeholder 2"/>
          <p:cNvSpPr/>
          <p:nvPr/>
        </p:nvSpPr>
        <p:spPr>
          <a:xfrm>
            <a:off x="469800" y="1503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0411-A349-4950-94D5-C208CAA70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"/>
          <p:cNvSpPr/>
          <p:nvPr/>
        </p:nvSpPr>
        <p:spPr>
          <a:xfrm>
            <a:off x="322200" y="1398600"/>
            <a:ext cx="7345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Works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that have not been recorded in a tangible, fixed form (e.g., a song you made up and sang in the sh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Ideas and f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Som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works too small or non origin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to be protected as copyright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e.g. single words, names, titles, slogans and headlines are unlikely to be protected by copyright (although they may be protected in other ways, e.g. trademar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706320" y="303120"/>
            <a:ext cx="66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What’s not cover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324000" y="1916280"/>
            <a:ext cx="5640120" cy="2288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b050"/>
                </a:solidFill>
                <a:latin typeface="Verdana"/>
              </a:rPr>
              <a:t>Fair us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” allowed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ivat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asonable portion only cop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fficient acknowledgement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324000" y="223920"/>
            <a:ext cx="75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ibrary Resources &amp;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5964120" y="3111480"/>
            <a:ext cx="3083040" cy="3060720"/>
          </a:xfrm>
          <a:prstGeom prst="rect">
            <a:avLst/>
          </a:prstGeom>
          <a:ln w="0">
            <a:noFill/>
          </a:ln>
        </p:spPr>
      </p:pic>
      <p:sp>
        <p:nvSpPr>
          <p:cNvPr id="23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94C2-2C30-4061-A6AD-F78258198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324000" y="223920"/>
            <a:ext cx="751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CC Library Guidelines on the use of electronic resour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"/>
          <p:cNvSpPr/>
          <p:nvPr/>
        </p:nvSpPr>
        <p:spPr>
          <a:xfrm>
            <a:off x="733320" y="6400800"/>
            <a:ext cx="696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ttp://libguides.ucc.ie/ld.php?content_id=312097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FC7E-3B43-4C17-A7D3-C566FBC75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724356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74160"/>
            <a:ext cx="7772400" cy="72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reative Comm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itle 1"/>
          <p:cNvSpPr/>
          <p:nvPr/>
        </p:nvSpPr>
        <p:spPr>
          <a:xfrm>
            <a:off x="395280" y="27082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289080" y="797040"/>
            <a:ext cx="8424720" cy="56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using material from the Internet in your work or presentations, look out for this symb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hors give "Creative Commons” licences when they want to give people the right to share, use, and build upon a work that they have c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o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C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he least restrictive o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–“all rights grant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remember…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images from the Internet are subject to Copyright Law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(All images used in this presentation were from </a:t>
            </a:r>
            <a:r>
              <a:rPr b="1" i="1" lang="en-GB" sz="1000" spc="-1" strike="noStrike">
                <a:solidFill>
                  <a:srgbClr val="000000"/>
                </a:solidFill>
                <a:latin typeface="Verdana"/>
              </a:rPr>
              <a:t>Pixabay (CC0 licence), </a:t>
            </a:r>
            <a:r>
              <a:rPr b="0" i="1" lang="en-GB" sz="1000" spc="-1" strike="noStrike">
                <a:solidFill>
                  <a:srgbClr val="000000"/>
                </a:solidFill>
                <a:latin typeface="Verdana"/>
              </a:rPr>
              <a:t>unless otherwise credi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rcRect l="3708" t="8552" r="31387" b="12012"/>
          <a:stretch/>
        </p:blipFill>
        <p:spPr>
          <a:xfrm>
            <a:off x="415800" y="3603600"/>
            <a:ext cx="2519640" cy="13669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244" name="Picture 7" descr="https://licensebuttons.net/l/by/3.0/88x31.png"/>
          <p:cNvPicPr/>
          <p:nvPr/>
        </p:nvPicPr>
        <p:blipFill>
          <a:blip r:embed="rId2"/>
          <a:stretch/>
        </p:blipFill>
        <p:spPr>
          <a:xfrm>
            <a:off x="6834240" y="132876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245" name="Ink 1" descr=""/>
          <p:cNvPicPr/>
          <p:nvPr/>
        </p:nvPicPr>
        <p:blipFill>
          <a:blip r:embed="rId3"/>
          <a:stretch/>
        </p:blipFill>
        <p:spPr>
          <a:xfrm>
            <a:off x="366840" y="4735440"/>
            <a:ext cx="2109600" cy="209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"/>
          <p:cNvPicPr/>
          <p:nvPr/>
        </p:nvPicPr>
        <p:blipFill>
          <a:blip r:embed="rId4"/>
          <a:srcRect l="4837" t="0" r="5163" b="6013"/>
          <a:stretch/>
        </p:blipFill>
        <p:spPr>
          <a:xfrm>
            <a:off x="7810560" y="3935520"/>
            <a:ext cx="990720" cy="1035000"/>
          </a:xfrm>
          <a:prstGeom prst="rect">
            <a:avLst/>
          </a:prstGeom>
          <a:ln w="0">
            <a:noFill/>
          </a:ln>
        </p:spPr>
      </p:pic>
      <p:sp>
        <p:nvSpPr>
          <p:cNvPr id="24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1177-1858-4260-9C0B-5776593FB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Straight Arrow Connector 3"/>
          <p:cNvCxnSpPr/>
          <p:nvPr/>
        </p:nvCxnSpPr>
        <p:spPr>
          <a:xfrm flipH="1">
            <a:off x="3058920" y="4220640"/>
            <a:ext cx="306720" cy="10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485640" y="1557360"/>
            <a:ext cx="7039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Keep a note of every book, article, website etc. used in preparing your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For direct quotes – use “quotation mark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Paraphrasing – credit the original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Know what style your lecturer expects and us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79280" y="22392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ap on Plagiarism and Re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" descr=""/>
          <p:cNvPicPr/>
          <p:nvPr/>
        </p:nvPicPr>
        <p:blipFill>
          <a:blip r:embed="rId2"/>
          <a:stretch/>
        </p:blipFill>
        <p:spPr>
          <a:xfrm>
            <a:off x="6711840" y="2205000"/>
            <a:ext cx="2092320" cy="2793960"/>
          </a:xfrm>
          <a:prstGeom prst="rect">
            <a:avLst/>
          </a:prstGeom>
          <a:ln w="0">
            <a:noFill/>
          </a:ln>
        </p:spPr>
      </p:pic>
      <p:sp>
        <p:nvSpPr>
          <p:cNvPr id="25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4982-A7AB-4018-8BB9-0B93D333F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"/>
          <p:cNvSpPr/>
          <p:nvPr/>
        </p:nvSpPr>
        <p:spPr>
          <a:xfrm>
            <a:off x="1619280" y="476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Library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324000" y="4886280"/>
            <a:ext cx="75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nd watch out for more library    training throughout the y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1963800" y="1700280"/>
            <a:ext cx="4492440" cy="2970000"/>
          </a:xfrm>
          <a:prstGeom prst="rect">
            <a:avLst/>
          </a:prstGeom>
          <a:ln w="0">
            <a:noFill/>
          </a:ln>
        </p:spPr>
      </p:pic>
      <p:sp>
        <p:nvSpPr>
          <p:cNvPr id="25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12B8-8697-42A2-9989-A663DD2D5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98360" y="2271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agiaris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68360" y="1484280"/>
            <a:ext cx="69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unacknowledged use of the words or ideas of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 algn="r">
              <a:lnSpc>
                <a:spcPct val="150000"/>
              </a:lnSpc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CC French D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135000" y="6308640"/>
            <a:ext cx="761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Proxima Nova"/>
              </a:rPr>
              <a:t>(</a:t>
            </a:r>
            <a:r>
              <a:rPr b="0" lang="en-GB" sz="1000" spc="-1" strike="noStrike">
                <a:solidFill>
                  <a:srgbClr val="006dac"/>
                </a:solidFill>
                <a:latin typeface="Proxima Nova"/>
              </a:rPr>
              <a:t>www.candidwriter.com</a:t>
            </a:r>
            <a:r>
              <a:rPr b="0" lang="en-GB" sz="1000" spc="-1" strike="noStrike">
                <a:solidFill>
                  <a:srgbClr val="212124"/>
                </a:solidFill>
                <a:latin typeface="Proxima Nova"/>
              </a:rPr>
              <a:t> copying Image Source: du.se/refero/Refero_eng/tutorial/2plagiarism.php Accessed: 18 July 201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611280" y="323208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7DE1-1ED0-4D6D-B409-56064B2C5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179280" y="1484280"/>
            <a:ext cx="7921800" cy="40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turning in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someone else's work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as you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copying words or idea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from someone else without giving cr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failing to put a quotation in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quotation mar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giving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incorrect information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about the source of a qu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changing words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but copying the sentence structure of a source without giving cr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copying so many words or ideas from a source that it makes up the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majority of your work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, whether you give credit or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(http://www.plagiarism.org/plagiarism-101/what-is-plagiarism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hat Is Plagiarism?” 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lagiarism.or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iParadigms, 2014. Accessed: 18 July 201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372360" y="74520"/>
            <a:ext cx="2357280" cy="16653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324000" y="260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agiarism includ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AA2B-5530-4B2A-ABD9-75BF9EEA2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900000" y="1844640"/>
            <a:ext cx="6264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3"/>
          <p:cNvSpPr/>
          <p:nvPr/>
        </p:nvSpPr>
        <p:spPr>
          <a:xfrm>
            <a:off x="239760" y="1397160"/>
            <a:ext cx="764532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ree rodents with defective visio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ree rodents with defective visio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erceive how they fle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erceive how they fle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ey scurried by the spouse of the agronomi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he removed their posteriors with a kitchen utens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Have you ever observed such a phenomeno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s three rodents with defective vis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700360" y="6207120"/>
            <a:ext cx="26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Real Mother Goose, 1916 by Rand McNally &amp;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611280" y="36504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cognise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2"/>
          <a:stretch/>
        </p:blipFill>
        <p:spPr>
          <a:xfrm>
            <a:off x="5521320" y="1411200"/>
            <a:ext cx="2146320" cy="2149560"/>
          </a:xfrm>
          <a:prstGeom prst="rect">
            <a:avLst/>
          </a:prstGeom>
          <a:ln w="0">
            <a:noFill/>
          </a:ln>
        </p:spPr>
      </p:pic>
      <p:sp>
        <p:nvSpPr>
          <p:cNvPr id="112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2495-22B0-41A3-A283-0607AA1DA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185320" cy="6119640"/>
          </a:xfrm>
          <a:prstGeom prst="rect">
            <a:avLst/>
          </a:prstGeom>
          <a:ln w="0">
            <a:noFill/>
          </a:ln>
        </p:spPr>
      </p:pic>
      <p:pic>
        <p:nvPicPr>
          <p:cNvPr id="114" name="Ink 2" descr=""/>
          <p:cNvPicPr/>
          <p:nvPr/>
        </p:nvPicPr>
        <p:blipFill>
          <a:blip r:embed="rId2"/>
          <a:stretch/>
        </p:blipFill>
        <p:spPr>
          <a:xfrm>
            <a:off x="708120" y="1247760"/>
            <a:ext cx="7470720" cy="262080"/>
          </a:xfrm>
          <a:prstGeom prst="rect">
            <a:avLst/>
          </a:prstGeom>
          <a:ln w="0">
            <a:noFill/>
          </a:ln>
        </p:spPr>
      </p:pic>
      <p:pic>
        <p:nvPicPr>
          <p:cNvPr id="115" name="Ink 7" descr=""/>
          <p:cNvPicPr/>
          <p:nvPr/>
        </p:nvPicPr>
        <p:blipFill>
          <a:blip r:embed="rId3"/>
          <a:stretch/>
        </p:blipFill>
        <p:spPr>
          <a:xfrm>
            <a:off x="6686640" y="3695760"/>
            <a:ext cx="1028520" cy="109440"/>
          </a:xfrm>
          <a:prstGeom prst="rect">
            <a:avLst/>
          </a:prstGeom>
          <a:ln w="0">
            <a:noFill/>
          </a:ln>
        </p:spPr>
      </p:pic>
      <p:pic>
        <p:nvPicPr>
          <p:cNvPr id="116" name="Ink 6" descr=""/>
          <p:cNvPicPr/>
          <p:nvPr/>
        </p:nvPicPr>
        <p:blipFill>
          <a:blip r:embed="rId4"/>
          <a:stretch/>
        </p:blipFill>
        <p:spPr>
          <a:xfrm>
            <a:off x="1886040" y="3586320"/>
            <a:ext cx="5829120" cy="185760"/>
          </a:xfrm>
          <a:prstGeom prst="rect">
            <a:avLst/>
          </a:prstGeom>
          <a:ln w="0">
            <a:noFill/>
          </a:ln>
        </p:spPr>
      </p:pic>
      <p:pic>
        <p:nvPicPr>
          <p:cNvPr id="117" name="Ink 5" descr=""/>
          <p:cNvPicPr/>
          <p:nvPr/>
        </p:nvPicPr>
        <p:blipFill>
          <a:blip r:embed="rId5"/>
          <a:stretch/>
        </p:blipFill>
        <p:spPr>
          <a:xfrm>
            <a:off x="496800" y="3848040"/>
            <a:ext cx="3489480" cy="109440"/>
          </a:xfrm>
          <a:prstGeom prst="rect">
            <a:avLst/>
          </a:prstGeom>
          <a:ln w="0">
            <a:noFill/>
          </a:ln>
        </p:spPr>
      </p:pic>
      <p:pic>
        <p:nvPicPr>
          <p:cNvPr id="118" name="Ink 8" descr=""/>
          <p:cNvPicPr/>
          <p:nvPr/>
        </p:nvPicPr>
        <p:blipFill>
          <a:blip r:embed="rId6"/>
          <a:stretch/>
        </p:blipFill>
        <p:spPr>
          <a:xfrm>
            <a:off x="5697360" y="3395520"/>
            <a:ext cx="2787840" cy="154080"/>
          </a:xfrm>
          <a:prstGeom prst="rect">
            <a:avLst/>
          </a:prstGeom>
          <a:ln w="0">
            <a:noFill/>
          </a:ln>
        </p:spPr>
      </p:pic>
      <p:pic>
        <p:nvPicPr>
          <p:cNvPr id="119" name="Ink 9" descr=""/>
          <p:cNvPicPr/>
          <p:nvPr/>
        </p:nvPicPr>
        <p:blipFill>
          <a:blip r:embed="rId7"/>
          <a:stretch/>
        </p:blipFill>
        <p:spPr>
          <a:xfrm>
            <a:off x="488880" y="3621240"/>
            <a:ext cx="2633760" cy="171360"/>
          </a:xfrm>
          <a:prstGeom prst="rect">
            <a:avLst/>
          </a:prstGeom>
          <a:ln w="0">
            <a:noFill/>
          </a:ln>
        </p:spPr>
      </p:pic>
      <p:sp>
        <p:nvSpPr>
          <p:cNvPr id="12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B621-C21B-42C7-BAAE-7F61155D7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7632720" cy="48974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395280" y="333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Turnit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187280" y="40464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108000" y="1434960"/>
            <a:ext cx="7488360" cy="45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Acknowledging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 the information sources you have used to write your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Cite the work you have used in the text of your assignment, with brief details (In-text Ci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Include the complete details in a list of references at the end of the assignment (Bibliogra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50920" y="312840"/>
            <a:ext cx="67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iting/Referenc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2"/>
          <a:srcRect l="2752" t="6895" r="35829" b="13526"/>
          <a:stretch/>
        </p:blipFill>
        <p:spPr>
          <a:xfrm>
            <a:off x="2519280" y="2486160"/>
            <a:ext cx="3025800" cy="1395360"/>
          </a:xfrm>
          <a:prstGeom prst="rect">
            <a:avLst/>
          </a:prstGeom>
          <a:ln w="0">
            <a:noFill/>
          </a:ln>
        </p:spPr>
      </p:pic>
      <p:sp>
        <p:nvSpPr>
          <p:cNvPr id="12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9758-82E9-47F7-84A5-C40947C8B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719280" y="19782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1187280" y="40464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539640" y="343080"/>
            <a:ext cx="69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2433-C888-436A-BCEC-60C253AFA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Diagram 6" descr=""/>
          <p:cNvPicPr/>
          <p:nvPr/>
        </p:nvPicPr>
        <p:blipFill>
          <a:blip r:embed="rId2"/>
          <a:stretch/>
        </p:blipFill>
        <p:spPr>
          <a:xfrm>
            <a:off x="19080" y="1255680"/>
            <a:ext cx="780876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1:58:56Z</dcterms:created>
  <dc:creator>lisa</dc:creator>
  <dc:description/>
  <dc:language>en-US</dc:language>
  <cp:lastModifiedBy>Conrick, Virginia</cp:lastModifiedBy>
  <dcterms:modified xsi:type="dcterms:W3CDTF">2017-09-14T10:44:51Z</dcterms:modified>
  <cp:revision>156</cp:revision>
  <dc:subject/>
  <dc:title>PowerPoint Presentation</dc:title>
</cp:coreProperties>
</file>